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5A4A-0870-40CC-8D45-EDAAEEDDF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A292-13A1-4700-9683-2B2870B8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F9B3-063F-4B0C-A95E-0F5548C73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371D-DEB7-4C56-82B1-28CD5B7C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B5AF2-B8D6-42D8-8B16-29FAAE6C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260D1-B041-4CBE-8064-4874AF8B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AAC58-FD3B-4EE2-B933-F1E1E8BA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251AF-F01D-4828-874F-75C6AADD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2D8D9-8DC7-496D-AB05-D640BFC4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B8464-F4F3-4DA1-9A67-8674EBA0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FC691-8166-49F3-B7FC-75D27CF3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A698-408D-4ABE-AE84-3B60EC52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61800-AB91-4E4A-9C73-6F049042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BDE17-EF51-413D-B60F-D6628ADD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4DF42-1E81-47CF-8EA2-82E1B9BE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F02DB-E20A-4563-94F9-3C4D32E71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350FC-BB95-4B0E-BEB3-9FB10CFA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FB946-D2F1-488D-8053-68915C27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F6989-9756-40F2-9535-BFC0890B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F5FEC-F69F-4B7F-BEEE-4EC9A8B1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F8E4A-85A7-4A01-9483-5614EFD7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01F16-4870-4756-A146-A9B0FCA6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ACB5-9D21-46E6-819C-F5BC80BB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DF32F-6227-43CB-9034-543B8B1D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9A56C-B6CA-4524-9C71-62DEA7C4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829B4-7B78-48E5-853A-D843FAF7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3D1D7-AF68-4157-9C11-24DF4849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8DE4A-7908-40E4-8646-318CD8E8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D7458-5514-4FA4-A124-3CF2DFE8A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057BB-E994-4574-BE15-CEAACCDBA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531335-5F7B-4B6D-8D20-26E34324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C4B43B-D103-461B-A352-737FAFA1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84BD69-7A94-44A2-B19F-63392C56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195A-1DB9-4A7F-999B-B53C8D57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DBCDB9-ADEE-4A0F-BEF6-16A2F0E1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23AF1D-4A2D-4922-9CE7-EF96643D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C497C6-9D59-4709-93A2-22F6D311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7DF044-ECD8-48A9-B704-9518E722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4C77AB-8AE7-43AB-91C9-91290467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DE5FB4-B254-43BA-AF4A-CF1FD349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1FBA12-876E-4E5C-8AE4-CBEDCE6D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DD9BDE-1558-4B99-BD0C-88E5D1D6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75FE56-D4B3-4A1D-BCF8-75ED9C1E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1482-4937-40A8-9454-CA7A6A9F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508D-AAB0-4857-807B-2719BA6F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382B-A3B7-4CC9-8AEE-1D67F308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A891-3E88-472C-B8B8-CD9512F2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E16D-E098-41D9-9486-3A0CC55E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75B4-1E7A-448D-911D-E869C07AAE3F}" type="slidenum">
              <a:rPr b="0" lang="en-US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009dd9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830E-E175-448C-B22C-9FCE4E97D578}" type="slidenum">
              <a:rPr b="0" lang="en-US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B039-6450-49BE-96F6-300032F6592D}" type="slidenum">
              <a:rPr b="0" lang="en-US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8397-D723-4FE1-9F1B-0030246723EB}" type="slidenum">
              <a:rPr b="0" lang="en-US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mycampuslink.com/secure/staff/loginsta.aspx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irn.net/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440"/>
            <a:ext cx="830592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bf5f9"/>
                </a:solidFill>
                <a:latin typeface="Constantia"/>
              </a:rPr>
              <a:t>Faculty In-Service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bf5f9"/>
                </a:solidFill>
                <a:latin typeface="Constantia"/>
              </a:rPr>
              <a:t>Saturday, October 9, 2010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bf5f9"/>
                </a:solidFill>
                <a:latin typeface="Constantia"/>
              </a:rPr>
              <a:t>9:00 am – 12:00 pm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Fortis College Logo.tif"/>
          <p:cNvPicPr/>
          <p:nvPr/>
        </p:nvPicPr>
        <p:blipFill>
          <a:blip r:embed="rId2"/>
          <a:stretch/>
        </p:blipFill>
        <p:spPr>
          <a:xfrm>
            <a:off x="1633680" y="244440"/>
            <a:ext cx="596736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9:00 am – 9:05 am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troduc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9:06 am – 9:50 am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dam Misner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(Campus Portal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9:51 am – 10:05 am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Question and Answer Sess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0:06 am – 10:50 am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ephenie Rostron (LRC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0:51 am – 11:05 am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Question and Answer Sess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1:06 am – 11:35 am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ernando Smith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(Network Sharing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1:36 am – 11:45 am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Question and Answer Sess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1:46 am – 12:00 pm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erry Farris (Web Tools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4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ime Saving Too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mmunication Too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actical Usag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s://www.mycampuslink.com/secure/staff/loginsta.aspx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6" name="Title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"/>
          <p:cNvPicPr/>
          <p:nvPr/>
        </p:nvPicPr>
        <p:blipFill>
          <a:blip r:embed="rId3"/>
          <a:stretch/>
        </p:blipFill>
        <p:spPr>
          <a:xfrm>
            <a:off x="3524400" y="4548240"/>
            <a:ext cx="5205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n’s and Can not's with the LRC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ultimedia Availabilit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earning Information Resource Network (LIRN) (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lirn.ne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stball (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http://www.dustball.com/cs/plagiarism.checker/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Title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3"/>
          <a:stretch/>
        </p:blipFill>
        <p:spPr>
          <a:xfrm>
            <a:off x="5327640" y="3591000"/>
            <a:ext cx="393228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Fernand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etwork Shar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Terry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oogle (www.google.com)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iki’s (www.wikispaces.com)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logs (www.blogger.com)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ocial Media (www.facebook.com)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kype (www.skype.com)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2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2"/>
          <a:stretch/>
        </p:blipFill>
        <p:spPr>
          <a:xfrm>
            <a:off x="5205240" y="1292400"/>
            <a:ext cx="3664080" cy="1779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3"/>
          <a:stretch/>
        </p:blipFill>
        <p:spPr>
          <a:xfrm>
            <a:off x="8132760" y="5973840"/>
            <a:ext cx="474840" cy="549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4"/>
          <a:stretch/>
        </p:blipFill>
        <p:spPr>
          <a:xfrm>
            <a:off x="6834240" y="2908440"/>
            <a:ext cx="1474560" cy="395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5"/>
          <a:stretch/>
        </p:blipFill>
        <p:spPr>
          <a:xfrm>
            <a:off x="6145200" y="3687840"/>
            <a:ext cx="1461960" cy="5191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6"/>
          <a:stretch/>
        </p:blipFill>
        <p:spPr>
          <a:xfrm>
            <a:off x="7412040" y="4486320"/>
            <a:ext cx="105552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8:12:21Z</dcterms:created>
  <dc:creator>Terry R. Farris, MBA</dc:creator>
  <dc:description/>
  <dc:language>en-US</dc:language>
  <cp:lastModifiedBy>Terry R. Farris, MBA</cp:lastModifiedBy>
  <dcterms:modified xsi:type="dcterms:W3CDTF">2010-10-09T11:50:31Z</dcterms:modified>
  <cp:revision>10</cp:revision>
  <dc:subject/>
  <dc:title>Technology in the Classroom</dc:title>
</cp:coreProperties>
</file>